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3.png" ContentType="image/png"/>
  <Override PartName="/ppt/media/image36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A1B9-B0B9-4F8E-BBCE-323BA23B1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 will introduce the uni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2EE-95B7-4F6C-878D-D14CB8C0E0CF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.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: Points , lines, and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sh up with 1.2-1.3 WBME 1.1, 1.2, 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 1.4 – 1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SP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AD30-A352-4784-B86F-DC2B7C88F672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manipulate activity to answer questions from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s:  tape, scissors, Plane M, Plane N, Acti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844C-963D-48C9-8AA2-4E8D99D0AA82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:                   Geometry in your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STHETIC:          String Ar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:                   Students will tell a story about the basic undefined terms in geometry using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erms from unit #1, minimum of 15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Students will create a crossword puzzle with at least 20 vocabulary  wo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 provided for unit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E69B-1AEC-4A2C-9E89-C57C15934170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4DF-8A39-440C-B82E-ADD77201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4B2-6A13-42DA-B60B-006FD91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910-083B-447A-AD3D-F48E52A1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4FE-C060-4C05-BBD3-F3169FE0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CF372-B97E-4293-8D24-1F0F7CF6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6D8D1-5720-4373-A73A-76F2101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8042E-73FB-48A4-8EC4-2B145BC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4CF9-9F6A-4C87-95B4-8597E7DA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7CC8C-15DC-4BE1-82BE-94B81DF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1F4DB-3A69-41C2-A9F3-8A5CB1B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83AE5-65EC-4BD2-943A-C0B45C8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D65-A4B6-4794-AF06-19DE271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D61D-2183-4D19-843A-E3C8BCD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924C-EAB3-47F3-AFC4-E272BD2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17597-5B57-47E4-A5A6-4DFE9F2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11E08-9012-4C83-A8B7-47807D07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4600-7307-46A6-8271-B4FCE5CA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3FC6-3230-427C-9CAD-836F94A8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7E5F-4832-477C-976E-FBE4A60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5982-CBCD-415C-8F53-E000BCB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6349-8C91-489D-8250-B123EAB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63AB-F57B-4808-A7D9-D22DE0EA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13E-6125-4DA4-A8F9-AEC7191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3EA2-B5AC-47D3-944D-1ECB0DE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F36B-B981-4793-8CB7-588B1F8B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8C7A-5113-4CDD-B8E2-0A88EC6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14C3-9E52-47D6-8098-C510A17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C52E-D865-47D8-B12E-A35DFAF5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B53C-7A57-454B-8307-17D85DF2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EDED-9913-4BD1-8FA2-EA5CE669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4F9E0-A67D-4A75-B27B-A805CBF1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154D0-56BF-43E6-ADD6-9202095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22C32-12D7-4CF4-9505-F8A8576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745-74AA-4172-8DD0-CB32ABC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15F41-E850-4303-A93B-BBDA711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49DA3-CC65-4AFC-B641-A3ABB025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33F46-BAAA-4A0A-A305-4D1392D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B2F42-70B2-4EB6-A7A6-0DFF50A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BDF09-4A09-4F90-983B-EEC26C2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AB572-8A87-4740-B805-8E8FE88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85297-6616-4913-8714-5AAD74A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10D8F-BC87-4800-BF5C-F4C115A9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775C0-D77E-44FC-8259-A2FA9B27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40A-0C75-4A67-9DCD-F1DAD23C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E24-D917-4918-9BB6-B1D213C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F1B-0BB0-4BE2-AD02-53C153A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2B6-35B7-40F4-9BC6-44288DF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2C8-3B3B-4EA2-8952-E877CA3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627A-73D2-4A71-B01A-CC86A34A26D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0FB9-D4FF-4A83-8D1E-58BE61EE054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4B3-4530-439C-8F85-78251D0D2BA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90B-046F-4262-B79A-646FA87C54E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09320" y="39625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USMP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Learning Pl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am Jordan &amp; Anna Cedill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774720" y="1749600"/>
            <a:ext cx="78994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3"/>
          <a:stretch/>
        </p:blipFill>
        <p:spPr>
          <a:xfrm>
            <a:off x="5334120" y="5791320"/>
            <a:ext cx="326376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76720" y="4876920"/>
            <a:ext cx="1780920" cy="16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1590480" cy="1581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6"/>
          <a:stretch/>
        </p:blipFill>
        <p:spPr>
          <a:xfrm>
            <a:off x="6553080" y="3733920"/>
            <a:ext cx="206712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7"/>
          <a:stretch/>
        </p:blipFill>
        <p:spPr>
          <a:xfrm>
            <a:off x="685800" y="5715000"/>
            <a:ext cx="121932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4"/>
          <p:cNvSpPr/>
          <p:nvPr/>
        </p:nvSpPr>
        <p:spPr>
          <a:xfrm>
            <a:off x="152280" y="3200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Pythagorean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6324480" y="3200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891"/>
                </a:solidFill>
                <a:latin typeface="Constantia"/>
              </a:rPr>
              <a:t>Midpoint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410080" y="51814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cee6"/>
                </a:solidFill>
                <a:latin typeface="Constantia"/>
              </a:rPr>
              <a:t>Distance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57" name="Straight Arrow Connector 17"/>
          <p:cNvCxnSpPr/>
          <p:nvPr/>
        </p:nvCxnSpPr>
        <p:spPr>
          <a:xfrm flipV="1">
            <a:off x="533520" y="1447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58" name="Text Box 14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s lesson will take groups of students through various GSP labs which will develop and connect the formulas belo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as six (6) lessons that deal with basic geometric terminolog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8474040" cy="86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prism"/>
          <p:cNvPicPr/>
          <p:nvPr/>
        </p:nvPicPr>
        <p:blipFill>
          <a:blip r:embed="rId2"/>
          <a:stretch/>
        </p:blipFill>
        <p:spPr>
          <a:xfrm>
            <a:off x="7162920" y="5029200"/>
            <a:ext cx="169200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intersect"/>
          <p:cNvPicPr/>
          <p:nvPr/>
        </p:nvPicPr>
        <p:blipFill>
          <a:blip r:embed="rId3"/>
          <a:stretch/>
        </p:blipFill>
        <p:spPr>
          <a:xfrm>
            <a:off x="5562720" y="4038480"/>
            <a:ext cx="187488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plane"/>
          <p:cNvPicPr/>
          <p:nvPr/>
        </p:nvPicPr>
        <p:blipFill>
          <a:blip r:embed="rId4"/>
          <a:stretch/>
        </p:blipFill>
        <p:spPr>
          <a:xfrm>
            <a:off x="3124080" y="3962520"/>
            <a:ext cx="1524240" cy="143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abeling lines"/>
          <p:cNvPicPr/>
          <p:nvPr/>
        </p:nvPicPr>
        <p:blipFill>
          <a:blip r:embed="rId5"/>
          <a:stretch/>
        </p:blipFill>
        <p:spPr>
          <a:xfrm>
            <a:off x="3048120" y="2362320"/>
            <a:ext cx="137160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gbisect1"/>
          <p:cNvPicPr/>
          <p:nvPr/>
        </p:nvPicPr>
        <p:blipFill>
          <a:blip r:embed="rId6"/>
          <a:stretch/>
        </p:blipFill>
        <p:spPr>
          <a:xfrm>
            <a:off x="1066680" y="4267080"/>
            <a:ext cx="1447920" cy="1271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ongruent segments"/>
          <p:cNvPicPr/>
          <p:nvPr/>
        </p:nvPicPr>
        <p:blipFill>
          <a:blip r:embed="rId7"/>
          <a:stretch/>
        </p:blipFill>
        <p:spPr>
          <a:xfrm>
            <a:off x="5257800" y="220968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djangle1"/>
          <p:cNvPicPr/>
          <p:nvPr/>
        </p:nvPicPr>
        <p:blipFill>
          <a:blip r:embed="rId8"/>
          <a:stretch/>
        </p:blipFill>
        <p:spPr>
          <a:xfrm>
            <a:off x="838080" y="2438280"/>
            <a:ext cx="1765440" cy="1319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vertangle1"/>
          <p:cNvPicPr/>
          <p:nvPr/>
        </p:nvPicPr>
        <p:blipFill>
          <a:blip r:embed="rId9"/>
          <a:stretch/>
        </p:blipFill>
        <p:spPr>
          <a:xfrm>
            <a:off x="5105520" y="5181480"/>
            <a:ext cx="1874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idpt formula"/>
          <p:cNvPicPr/>
          <p:nvPr/>
        </p:nvPicPr>
        <p:blipFill>
          <a:blip r:embed="rId10"/>
          <a:stretch/>
        </p:blipFill>
        <p:spPr>
          <a:xfrm>
            <a:off x="1143000" y="5791320"/>
            <a:ext cx="3429000" cy="525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dist formula"/>
          <p:cNvPicPr/>
          <p:nvPr/>
        </p:nvPicPr>
        <p:blipFill>
          <a:blip r:embed="rId11"/>
          <a:stretch/>
        </p:blipFill>
        <p:spPr>
          <a:xfrm>
            <a:off x="4876920" y="3276720"/>
            <a:ext cx="3595680" cy="3808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1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334800" y="176040"/>
            <a:ext cx="8491680" cy="1354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828440"/>
            <a:ext cx="405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lesson introduces students to the undefined terms – point, line, &amp; pla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gment, endpoint, ray, and opposite rays are also introduced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7960" y="1828440"/>
            <a:ext cx="405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IVITY used to evaluate student ability to differentiate between geometric concepts while using the Plane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95" name="Straight Arrow Connector 6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196" name="Picture 0" descr="Intersecting planes M &amp; N (1).JPG"/>
          <p:cNvPicPr/>
          <p:nvPr/>
        </p:nvPicPr>
        <p:blipFill>
          <a:blip r:embed="rId2"/>
          <a:stretch/>
        </p:blipFill>
        <p:spPr>
          <a:xfrm>
            <a:off x="5486400" y="4495680"/>
            <a:ext cx="2755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304920" y="1523520"/>
            <a:ext cx="428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su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ometry in Your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7960" y="1523520"/>
            <a:ext cx="4059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nesthe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Content Placeholder 8" descr="DSC01500.JPG"/>
          <p:cNvPicPr/>
          <p:nvPr/>
        </p:nvPicPr>
        <p:blipFill>
          <a:blip r:embed="rId2"/>
          <a:stretch/>
        </p:blipFill>
        <p:spPr>
          <a:xfrm>
            <a:off x="5562720" y="4495680"/>
            <a:ext cx="160020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Content Placeholder 9" descr="DSC01569.JPG"/>
          <p:cNvPicPr/>
          <p:nvPr/>
        </p:nvPicPr>
        <p:blipFill>
          <a:blip r:embed="rId3"/>
          <a:stretch/>
        </p:blipFill>
        <p:spPr>
          <a:xfrm rot="9239400">
            <a:off x="5395680" y="2476080"/>
            <a:ext cx="1527120" cy="1333440"/>
          </a:xfrm>
          <a:prstGeom prst="rect">
            <a:avLst/>
          </a:prstGeom>
          <a:ln w="0">
            <a:noFill/>
          </a:ln>
        </p:spPr>
      </p:pic>
      <p:pic>
        <p:nvPicPr>
          <p:cNvPr id="202" name="Content Placeholder 9" descr="DSC01569.JPG"/>
          <p:cNvPicPr/>
          <p:nvPr/>
        </p:nvPicPr>
        <p:blipFill>
          <a:blip r:embed="rId4"/>
          <a:stretch/>
        </p:blipFill>
        <p:spPr>
          <a:xfrm>
            <a:off x="7238880" y="3352680"/>
            <a:ext cx="1506600" cy="200844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9" descr="DSC01569.JPG"/>
          <p:cNvPicPr/>
          <p:nvPr/>
        </p:nvPicPr>
        <p:blipFill>
          <a:blip r:embed="rId5"/>
          <a:stretch/>
        </p:blipFill>
        <p:spPr>
          <a:xfrm rot="19113600">
            <a:off x="7118280" y="1802880"/>
            <a:ext cx="1497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 rot="21380400">
            <a:off x="539640" y="2749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2438280" y="2438280"/>
            <a:ext cx="1562400" cy="213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 rot="20355600">
            <a:off x="658440" y="4155840"/>
            <a:ext cx="1846440" cy="1760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08" name="Picture 12" descr=""/>
          <p:cNvPicPr/>
          <p:nvPr/>
        </p:nvPicPr>
        <p:blipFill>
          <a:blip r:embed="rId9"/>
          <a:stretch/>
        </p:blipFill>
        <p:spPr>
          <a:xfrm rot="797400">
            <a:off x="3015720" y="4578120"/>
            <a:ext cx="15987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04920" y="1523880"/>
            <a:ext cx="428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eating a crossword puzzle with minimum of 20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520"/>
            <a:ext cx="405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b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 a story about the undefined terms in Geometry and how everything can relate back to these terms.  Must use minimum of 15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2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13" name="Picture 5" descr="DSC03359.JPG"/>
          <p:cNvPicPr/>
          <p:nvPr/>
        </p:nvPicPr>
        <p:blipFill>
          <a:blip r:embed="rId2"/>
          <a:stretch/>
        </p:blipFill>
        <p:spPr>
          <a:xfrm>
            <a:off x="6248520" y="46483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4"/>
          <a:stretch/>
        </p:blipFill>
        <p:spPr>
          <a:xfrm>
            <a:off x="2666880" y="4648320"/>
            <a:ext cx="1755720" cy="86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1828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2057400"/>
            <a:ext cx="40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ntroduction of the Segment Addition Postulate is crucial to the understanding of solving for  unknown values .  The difference between “midpoint” and “between” arises in this les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9" name="Straight Arrow Connector 5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Rectangle 5"/>
          <p:cNvSpPr/>
          <p:nvPr/>
        </p:nvSpPr>
        <p:spPr>
          <a:xfrm>
            <a:off x="4800600" y="18288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or |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- 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135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8006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Betwe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8672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8534520" y="574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3526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114800" y="5740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934320" y="575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– 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505320" y="6248520"/>
            <a:ext cx="51814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19920" y="6135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295280" y="5867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160" y="190512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gle Addition Postulate allows students to work with angle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ing angles and measures of an angle is discussed in this se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s of angles such as acute angle, right angle, obtuse angles and straight angles are part of this less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44800" cy="1873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28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057040"/>
            <a:ext cx="405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ce the basics of points, lines, planes, angles, etc have been established, we dive deeper with angles by using the computer with Geometer Sketchp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119560" y="2746440"/>
            <a:ext cx="3114720" cy="2354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4419720" y="1828800"/>
            <a:ext cx="4190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SP lab # 11 vertical ang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257800" y="42670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Observations: No matter where the points move the vertical angles have the same measur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474040" cy="149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 rot="1974600">
            <a:off x="6875280" y="1854360"/>
            <a:ext cx="790560" cy="1419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6324480" y="3962520"/>
            <a:ext cx="2365560" cy="220968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3"/>
          <p:cNvSpPr/>
          <p:nvPr/>
        </p:nvSpPr>
        <p:spPr>
          <a:xfrm>
            <a:off x="609480" y="1676520"/>
            <a:ext cx="5562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w that students are familiar with GSP, they will explore different topics in groups then share their results with the cl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ormulas included in this section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rect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squa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tri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 and Circumference of a circ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46" name="Straight Arrow Connector 17"/>
          <p:cNvCxnSpPr/>
          <p:nvPr/>
        </p:nvCxnSpPr>
        <p:spPr>
          <a:xfrm flipV="1">
            <a:off x="380520" y="1523880"/>
            <a:ext cx="815436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1:39:40Z</dcterms:created>
  <dc:creator>BONESY</dc:creator>
  <dc:description/>
  <dc:language>en-US</dc:language>
  <cp:lastModifiedBy>teacher</cp:lastModifiedBy>
  <dcterms:modified xsi:type="dcterms:W3CDTF">2009-06-29T22:20:56Z</dcterms:modified>
  <cp:revision>12</cp:revision>
  <dc:subject/>
  <dc:title>Introduction to Geometry                   Unit #1</dc:title>
</cp:coreProperties>
</file>